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4008240" y="0"/>
            <a:ext cx="30668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84040" y="706320"/>
            <a:ext cx="4709880" cy="353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D361C74-8168-474F-8FF2-10A3F9CD2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EA25B9B-8876-45C3-B30E-A2AF22F03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4484B32-2155-4E20-A43B-BE1086FF7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C29AC0A-9444-4059-99E2-55066E9F7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CB52413-3FFE-49AB-9995-1710A8C7E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BB4EA9A-F92C-47DA-BD4D-BCF453A96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CF4-F786-4920-8491-B7C6C016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DF3-4E70-45F8-99D6-76741E39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487-8DF8-44EE-A33B-C3A39B05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47A-ED4C-4C9E-BED9-ED421CAD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4C3E-EA2C-4836-8DCE-8BF5B3DD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D1E2-3C11-4F0A-BA66-11110E6C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7DD8-DD0B-45F2-AC2C-92D1020F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627D-EC11-4D77-B3C7-FD470712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953A-87E5-4542-A8ED-3D001CD1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E945-DA20-4387-B89E-459B566D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2438-3911-4975-A7FB-4BAE1C7D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1E5-D581-4B85-B938-31C599BB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59DD-185F-4EE8-B532-487EFAD1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2759-7159-42F9-88ED-46F5386A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61A2-6918-4FB4-B234-90B3C69B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EFC7-90FD-4551-931B-2A51D8FC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5C1C-8B7F-4656-8F91-37772BB9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CC3A-F7D7-43EB-88BE-97C4164C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5A53-CA00-4D02-89A2-370B41EB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3A6BF-D4F4-4F03-985A-189D8690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E200E-E3A5-4D61-889D-BC25C0BD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52384-C026-4E24-89F3-7B5D45C9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567-929E-49B4-9DFF-993295E3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7C17D-E205-40A8-802A-190AD328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C2F66-0519-4E04-8834-6441E4E8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80FD7-98AE-49FE-A353-32F5FEF8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8212A-9551-4B75-AB1A-BAA501A6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EA34E-7F0A-4374-B709-6A2D33C5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CC891-9D45-4B16-A704-1C71FDE7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C027A-FC44-4AFA-9B12-AFF85AB7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16BB7-83A3-4218-AAC6-2C6F5915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4024C-5B38-4FEA-BED2-60DFD775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4BC13-60D6-427B-94E9-794A20F4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3CC-E61A-422B-B740-B08B96B9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2145B-F32C-46B1-89B2-5F0E3C86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C506E-A936-4FFD-BB0D-F4BD8D66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94F85-A40C-4908-B6FA-0B12A9EC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23CA0-9CC0-44DA-8D58-184EFEBF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DDA76-C2D4-4551-9BE7-F794DC3A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E37FA-8347-4A18-8D9D-4E6E355C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A2FD5-84A4-46AD-9BF2-52A4BB10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A3545-8D97-44A1-8AA5-E015F0CD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4A375-30CA-4BEF-A75F-06579920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68A24-0A5A-418D-A8DF-F87FCFF1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5FF-7789-4C4E-9D4A-59814F00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55C2D-8080-4C07-AA65-B4C931BE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3F387-0516-407A-B903-38C325BB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9309A-CEC0-4636-B544-ACB3CFEF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C562A-D8FF-4BDE-988C-4D08C890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D1C0E-8902-476C-BCCF-E9989EE0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1C616-FA36-4E30-A4FD-2B38A0E5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E0841-6E0C-4C9E-9442-3A3F86C1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3B2D2-196D-468A-BB11-262D94EA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A2172-AFFC-407F-AA84-0655C18A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FB845-0A8F-435C-8B34-1A2F19CC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B59-AB72-4463-BB90-5BD79DA8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C13AB-2C92-492E-8340-0AE5FE2C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6890A-9896-4BD3-A92D-485E393A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38D23-E1A0-43CD-B124-389062F7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C4F3B-B74D-45D1-9801-BBD50B2B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CF82E-0160-4D56-8251-1EEA9DBE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70ED7-5BA0-46F1-8C7D-1205CE19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B2F60-84DE-4E87-8381-97545EF2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6D6C2-715A-478D-9586-F57F291A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A4322-D763-4AAF-A29E-30BB5856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ABA58-E0EF-4319-B2E1-ECA9AD26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1F0-0C3D-4098-9539-D3C74EC6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BEE72-7D05-4E23-9A35-54AEF14C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5134B-DB44-4CB5-9261-1B679BAC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AAF42-8192-409D-B06E-8AFBEF77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74005-7972-4BF1-A1AE-7020ACB8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8F0C2-B57F-49B2-A09C-1195ABEB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E46A4-4E67-4E78-8B8E-39CA991A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9EBD2-7E1C-4AA0-9DE9-C18D3EB9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E537D-D682-4E4D-B8EC-029F0723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23253-6D18-45F8-BD2A-62F410FC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DA093-1540-46C4-87B8-9994CF47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7AE-C7A7-4122-9234-15513D45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D8281-FB48-4A4E-ADDC-8988AB78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31AAC-BE81-45F7-AA81-AB990EFD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9D0B0-A372-4962-A41D-47D2F98C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8F6C6-8468-483A-BC65-EF789507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C7401-B6F7-4256-AFC8-83C171C8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DDE59-B466-47C7-B552-6001F687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E9CE0-2CEE-46AF-8672-F5F9FD58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81162-ED12-4853-AAEF-CC09BA24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7F078-9665-46BB-8B98-093E1DF9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703C9-AA4E-49DD-AD78-BFD12DFE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39E-1ADC-45B1-BD10-B6EBBDF6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1D380-7A91-41E2-B577-A69B3266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CE107-5DC1-4FCE-B9DF-22FF3E11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4B04D-3336-41F4-8A3B-5203B374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AF1A2-ECEA-448A-B2DD-9BEB4601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8F925-DB87-4EA6-AE39-B6EF27D3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2A41E-A7B6-4690-A2AE-38077FB2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71905-492E-420E-A2C5-00C4B0F1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F42E-FC71-47ED-AA74-2D2612E14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9A36-C073-430A-AD3A-2E3F54BBDE9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39AB-C9AB-40B7-A2AF-E37B7E6A826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CC6D-54F0-4083-9ABB-C1D43D91AD6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0D53-9F07-4AAC-ADAF-94EB8AFB4A3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2441-9F05-42EB-BB79-D7BC6C02F73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3B85-8A19-4E02-B5FB-45E1B6E375A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39AD-EEB3-43AC-AA89-03947AE2C90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3880" y="152388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10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447560" y="358092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(4 part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2314"/>
                </a:solidFill>
                <a:latin typeface="Gill Sans MT"/>
              </a:rPr>
              <a:t>Logical, Logist, Logue, Logy, Loquy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14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science or study o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speec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collection o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Zoologic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ntomologis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ntom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onologu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nth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nthrop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rchae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c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tym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ulogy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(eu-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ell; good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oliloqu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i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ialogu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e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7" descr="zoologicall.jpg"/>
          <p:cNvPicPr/>
          <p:nvPr/>
        </p:nvPicPr>
        <p:blipFill>
          <a:blip r:embed="rId2"/>
          <a:stretch/>
        </p:blipFill>
        <p:spPr>
          <a:xfrm>
            <a:off x="7315200" y="1752480"/>
            <a:ext cx="1276200" cy="914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anthologyy.jpg"/>
          <p:cNvPicPr/>
          <p:nvPr/>
        </p:nvPicPr>
        <p:blipFill>
          <a:blip r:embed="rId3"/>
          <a:stretch/>
        </p:blipFill>
        <p:spPr>
          <a:xfrm>
            <a:off x="6400800" y="5715000"/>
            <a:ext cx="2743200" cy="1143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entomology.jpg"/>
          <p:cNvPicPr/>
          <p:nvPr/>
        </p:nvPicPr>
        <p:blipFill>
          <a:blip r:embed="rId4"/>
          <a:stretch/>
        </p:blipFill>
        <p:spPr>
          <a:xfrm>
            <a:off x="1295280" y="3200400"/>
            <a:ext cx="2133720" cy="1266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0" descr="dialogue.jpg"/>
          <p:cNvPicPr/>
          <p:nvPr/>
        </p:nvPicPr>
        <p:blipFill>
          <a:blip r:embed="rId5"/>
          <a:stretch/>
        </p:blipFill>
        <p:spPr>
          <a:xfrm>
            <a:off x="7010280" y="30481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1" descr="anthropology.jpg"/>
          <p:cNvPicPr/>
          <p:nvPr/>
        </p:nvPicPr>
        <p:blipFill>
          <a:blip r:embed="rId6"/>
          <a:stretch/>
        </p:blipFill>
        <p:spPr>
          <a:xfrm>
            <a:off x="1219320" y="5410080"/>
            <a:ext cx="2971800" cy="1285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2" descr="geology.jpg"/>
          <p:cNvPicPr/>
          <p:nvPr/>
        </p:nvPicPr>
        <p:blipFill>
          <a:blip r:embed="rId7"/>
          <a:stretch/>
        </p:blipFill>
        <p:spPr>
          <a:xfrm>
            <a:off x="3505320" y="3581280"/>
            <a:ext cx="1447560" cy="171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an, Mani, Man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and (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n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nicure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(cure-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o care for; to heal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nu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nufactu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nuscrip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0" name="Picture 6" descr="manicure.jpg"/>
          <p:cNvPicPr/>
          <p:nvPr/>
        </p:nvPicPr>
        <p:blipFill>
          <a:blip r:embed="rId2"/>
          <a:stretch/>
        </p:blipFill>
        <p:spPr>
          <a:xfrm>
            <a:off x="6629400" y="0"/>
            <a:ext cx="2362320" cy="1600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manual.jpg"/>
          <p:cNvPicPr/>
          <p:nvPr/>
        </p:nvPicPr>
        <p:blipFill>
          <a:blip r:embed="rId3"/>
          <a:stretch/>
        </p:blipFill>
        <p:spPr>
          <a:xfrm>
            <a:off x="6705720" y="46483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manufacture.jpg"/>
          <p:cNvPicPr/>
          <p:nvPr/>
        </p:nvPicPr>
        <p:blipFill>
          <a:blip r:embed="rId4"/>
          <a:stretch/>
        </p:blipFill>
        <p:spPr>
          <a:xfrm>
            <a:off x="1295280" y="3657600"/>
            <a:ext cx="3353040" cy="297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d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lating to the midd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termedi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ediator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(ator-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e who or that which, does or acts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edieval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edioc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editerrane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6" name="Picture 6" descr="mediate.jpg"/>
          <p:cNvPicPr/>
          <p:nvPr/>
        </p:nvPicPr>
        <p:blipFill>
          <a:blip r:embed="rId2"/>
          <a:stretch/>
        </p:blipFill>
        <p:spPr>
          <a:xfrm>
            <a:off x="2133720" y="5105520"/>
            <a:ext cx="2790720" cy="1371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medieval.jpg"/>
          <p:cNvPicPr/>
          <p:nvPr/>
        </p:nvPicPr>
        <p:blipFill>
          <a:blip r:embed="rId3"/>
          <a:stretch/>
        </p:blipFill>
        <p:spPr>
          <a:xfrm>
            <a:off x="6629400" y="4724280"/>
            <a:ext cx="2209680" cy="18669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mediterranean.jpg"/>
          <p:cNvPicPr/>
          <p:nvPr/>
        </p:nvPicPr>
        <p:blipFill>
          <a:blip r:embed="rId4"/>
          <a:stretch/>
        </p:blipFill>
        <p:spPr>
          <a:xfrm>
            <a:off x="1828800" y="3124080"/>
            <a:ext cx="243828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ter, Met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040" y="1599840"/>
            <a:ext cx="381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 measu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cience of measurem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at by which things are measur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em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ar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erimet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eri-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ound; about; near; encirclin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ti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di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hron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ci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a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dr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icr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rigonomet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Picture 6" descr="anemometer.jpg"/>
          <p:cNvPicPr/>
          <p:nvPr/>
        </p:nvPicPr>
        <p:blipFill>
          <a:blip r:embed="rId2"/>
          <a:stretch/>
        </p:blipFill>
        <p:spPr>
          <a:xfrm>
            <a:off x="1295280" y="3733920"/>
            <a:ext cx="1228680" cy="13716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barmometer.jpg"/>
          <p:cNvPicPr/>
          <p:nvPr/>
        </p:nvPicPr>
        <p:blipFill>
          <a:blip r:embed="rId3"/>
          <a:stretch/>
        </p:blipFill>
        <p:spPr>
          <a:xfrm>
            <a:off x="510552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perimeter.jpg"/>
          <p:cNvPicPr/>
          <p:nvPr/>
        </p:nvPicPr>
        <p:blipFill>
          <a:blip r:embed="rId4"/>
          <a:stretch/>
        </p:blipFill>
        <p:spPr>
          <a:xfrm>
            <a:off x="2819520" y="34290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altimeter.jpg"/>
          <p:cNvPicPr/>
          <p:nvPr/>
        </p:nvPicPr>
        <p:blipFill>
          <a:blip r:embed="rId5"/>
          <a:stretch/>
        </p:blipFill>
        <p:spPr>
          <a:xfrm>
            <a:off x="7543800" y="5105520"/>
            <a:ext cx="1209600" cy="12380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trigonometry.jpg"/>
          <p:cNvPicPr/>
          <p:nvPr/>
        </p:nvPicPr>
        <p:blipFill>
          <a:blip r:embed="rId6"/>
          <a:stretch/>
        </p:blipFill>
        <p:spPr>
          <a:xfrm>
            <a:off x="7162920" y="1522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chornomter.jpg"/>
          <p:cNvPicPr/>
          <p:nvPr/>
        </p:nvPicPr>
        <p:blipFill>
          <a:blip r:embed="rId7"/>
          <a:stretch/>
        </p:blipFill>
        <p:spPr>
          <a:xfrm>
            <a:off x="7467480" y="3581280"/>
            <a:ext cx="1447920" cy="12002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2" descr="diameter.jpg"/>
          <p:cNvPicPr/>
          <p:nvPr/>
        </p:nvPicPr>
        <p:blipFill>
          <a:blip r:embed="rId8"/>
          <a:stretch/>
        </p:blipFill>
        <p:spPr>
          <a:xfrm>
            <a:off x="1447920" y="5410080"/>
            <a:ext cx="1085760" cy="971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3" descr="audiometerr.jpg"/>
          <p:cNvPicPr/>
          <p:nvPr/>
        </p:nvPicPr>
        <p:blipFill>
          <a:blip r:embed="rId9"/>
          <a:stretch/>
        </p:blipFill>
        <p:spPr>
          <a:xfrm>
            <a:off x="3124080" y="5029200"/>
            <a:ext cx="1562400" cy="125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3-16T18:11:10Z</dcterms:modified>
  <cp:revision>31</cp:revision>
  <dc:subject/>
  <dc:title>Roots List #1</dc:title>
</cp:coreProperties>
</file>